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7920-92E9-4E13-859B-72A67404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6C7-F468-46FF-88B5-1017C3DC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890C-AD57-4A93-964E-9CC58939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5FB-41EE-4419-93F1-8E68B48B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E9A-2EE8-4233-807A-70341A9F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4199-9186-4FBB-AF4D-BC6ED939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4D7-F39C-4CDA-84C1-8705DACD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5BF-E41A-4C87-967D-9E0023CB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F66C-CE96-405F-85BF-C95E5038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084-189E-47FC-93FC-6516902A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095-7885-43BD-AC06-DDE753D5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3874-400D-49D4-A7B7-1B87B0FF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1EAB-328C-45B4-8A59-259768AFF2F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183852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343400" y="3029040"/>
            <a:ext cx="29862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2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لانجليزية البريطانية و الانجليزية الأمريك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- Different Sp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شتمل على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u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60948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روف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581280"/>
            <a:ext cx="7772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نتهي ب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257800"/>
            <a:ext cx="77724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نتهي ب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 (لاحظ حرف العلة قبلها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- Differen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114300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كلمات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353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humou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di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travell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kilome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labou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refu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. colour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. favour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. centimet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. cen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191120"/>
            <a:ext cx="7772400" cy="2361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rubb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curt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fla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pe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sho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lor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26:55Z</dcterms:created>
  <dc:creator>Bafayad</dc:creator>
  <dc:description/>
  <dc:language>en-US</dc:language>
  <cp:lastModifiedBy>معمل الانجليزي</cp:lastModifiedBy>
  <dcterms:modified xsi:type="dcterms:W3CDTF">2005-04-04T04:47:35Z</dcterms:modified>
  <cp:revision>7</cp:revision>
  <dc:subject/>
  <dc:title>عرض تقديمي من PowerPoint</dc:title>
</cp:coreProperties>
</file>